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3E2B-538A-4737-B9EC-9A2295C6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518-B711-47B7-8F0C-EE38336D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3CA69-8E31-4ECF-9E4A-559E3AF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58DA0-3BBA-4D06-BC19-B1FE665C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6F961-608F-49DD-8C80-98A17E1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CD691-FB56-4951-933F-2D9328A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76E60-BD0D-4BEC-A1DA-96A8E789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7FBE9-7B84-4682-A05F-940D6B2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8B5F0-5887-433D-A3C8-6C6E0F21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4AE35-415B-4E63-AB1F-2B193990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30596-A788-4EAD-B945-8E452420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F09-7ADE-4447-8851-80CCE99F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B97-C00F-4D07-9DB4-AEAD4F37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26C-82F3-4F55-AE6A-E88E5398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2184-427A-489C-817D-71F6E6E5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198-5F29-41F2-9F72-6E9544A8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74D0-881E-406D-B874-462E3804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52A2-C4C1-4704-A4EF-D712EB4A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08F-A65D-4C29-9EA6-6326263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5007-0D9F-487F-9608-1E172D4A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C6A-C7EF-45E8-B48E-E62591F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EA8B-1365-4050-A62A-406F411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B709-CA75-42CA-AEC7-D6B7E316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D891-75BA-40FA-B9D0-EA06AC42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10D-BD48-496E-9F9A-D1E95583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252B-EC62-423A-A6C7-76ED487C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942A-6CC1-4C6C-A318-9C244CE7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9C5F-81C5-47BC-AC11-536A30B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C342-8D63-4685-BFF5-0D3CF8C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099D-DA3E-4440-9DD7-7F23A61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43435-524B-4A6B-8115-C83B261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C66-57DA-48D7-9E3E-22A48C39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23D1-1853-436E-AAC1-3C239ACB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3990-D5C1-434B-B9F7-4EECF47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08C1-6D1A-4C24-B51D-6BD72FE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2C23-DBB1-4DD9-87D0-C2696B56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A1064-C0CA-4FCD-A8FA-1FB7E4C5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C7F1-EB53-4384-9D90-9DED7F9F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D76D-6DA3-4EB3-B27E-B5EC5C8B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C9DD-8CB6-4B4F-8B22-9F52F56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C290-2D45-4C01-9A38-2A3CD186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BDB06-A21D-4060-A668-0166EE5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8FB-CFBC-4774-9224-487AF2E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02EC-4EF7-45A6-8638-C23E9B8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DF19-36CD-429B-8558-5BB13D01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51D1-C0A1-4239-A2B3-E7319B7F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94F0-7F9F-4A85-BBD6-CDC04E2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95535-274A-4FA3-A218-290A2F8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2DD96-0AD3-49CC-AE86-10BC7025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A86B7-3DED-4306-8EFC-041F1BA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2A3B-0245-4D8D-B2FA-4A5B47E1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5CCBF-8A73-43B8-B31C-3C0A32B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F4969-DDC2-4465-B2ED-8D839C56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291-8EE1-4A6B-9720-EDA7F6F4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5858-C78E-4574-86E4-90C75819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0D5AD-8B1B-4EFB-9F23-DFFE16D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31811-331E-4455-937B-B1EC402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81504-904B-447C-9FE4-5064197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A4338-CF57-4FA0-ABA5-3A24B350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ACD2-65EC-49E1-95D0-D074E742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3F4E7-FA3C-47AE-AF02-D07E414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3C27-8052-425E-A9FC-392DBE4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7582-8087-4AB0-B458-7ED81EF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1AABD-A8FC-472A-9DE2-5ABA8F7A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DDC-260B-4BF4-9E3F-1ADEEEDF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F2E7F-7798-474E-B384-FBD19FF0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EBDA2-9584-43EA-A101-9685811A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7FB84-760F-4081-93A0-0E5668F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420E-B07B-4072-B9AA-05C1F27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04C87-541F-4435-8440-474B448B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B0AC-062C-4215-9E48-85ADEB97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C0F3-C641-48F2-86DA-D6A504A7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DC80-6755-4995-B013-78022BAF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3D2A-F89F-4266-BCD8-35ABA4BF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7FE7-EA78-4CB6-87BB-B2213D6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4D0-85C8-43A1-A240-8B93FDA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20EA1-BDE4-458A-AADF-ACBD2F9B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78FA-D103-480B-824A-CA444FF4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94FE-514D-41D7-BD10-113B4E22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86DAC-D523-46F3-BA75-EFA466E6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95E3-FE3A-4124-9CB5-00098A8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03D3D-B11E-4733-A88B-4EC66B0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6B6A-1284-4696-9B6A-AE0467A6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C218-7F02-4CBB-8F7D-CCCF392D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9DD5-0831-4A29-A5BD-6DD3B342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E963-7526-4F0C-94F7-E98B42D2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FEF-7C77-48A4-AA1B-8BC4E34F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99285-5E02-46BB-BBA8-58B0368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D8C9-2E74-46D2-9F2E-B26A4A5B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C4EB-CA7D-4075-ADEE-999B92B0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5AE48-AFC4-4A98-BCAE-FA8BE24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A3D6B-DD80-4D9D-855E-A1A4392B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B206F-83AF-446D-AFB8-C833D0A5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45A9-8D0D-4FE9-802A-51E78B52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541A-7D81-4AAC-BE61-E2BCC268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4B97-12FE-42D6-9717-2517C9A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0FAC-EBE6-4FBB-9920-9E8969C1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3A4-4EBA-4492-8A31-5955B18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16115-B52D-4040-AD73-3F0C7636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512B7-2684-4799-ABAE-F8CB046D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A81A-ED8D-48CC-B0FD-817B9731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9830-B166-4858-BDD9-D8E73A7A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A2FA0-4252-46A8-8C46-82B531E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4C0A1-5646-44DA-A652-C35E57DB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79C31-6D58-46E5-A32F-C980410F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3F9FE-8E36-4D60-B173-250A118D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796B-CDFC-4991-8D79-EA8FA8B8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3DD3C-F8C1-49F0-91FF-DFD06FB7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D71E-C7DA-4DD9-8205-2DF4C0A23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1D91-2ADD-4614-9110-7FD96B78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3D2-EA45-4315-8502-62A3ACEA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6FB6-5B53-4E75-89C4-BBDA9A32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8E21-9EE9-46D0-A109-62EFCF32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607D-3DD1-4BD6-952B-86FD8449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4281-998D-45C2-8376-12ED7EEF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F824-D56F-43C7-B5A5-EF8F0217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197C-94C1-4462-BDE5-F248C1191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2.3: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1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asic terminology related to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linea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symbol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graphically and nume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intermediate valu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oblem-solv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Vocabular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: a statement that two mathematical expression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find all values that would make the equation true (these are solutions, they satisfy the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equations: equations with the same solu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ion: an equation with no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: a equation that is only solved by some values for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Linear equation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equation in one variable that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Properties of equali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c=b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Ways to solve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Intermediate value proper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ints on continuous function, then it is assumed that the points between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 of the range for this function, if the domain is betwe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8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-3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2-9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17:18Z</dcterms:created>
  <dc:creator>nuhs</dc:creator>
  <dc:description/>
  <dc:language>en-US</dc:language>
  <cp:lastModifiedBy>nuhs</cp:lastModifiedBy>
  <dcterms:modified xsi:type="dcterms:W3CDTF">2008-01-17T21:13:33Z</dcterms:modified>
  <cp:revision>4</cp:revision>
  <dc:subject/>
  <dc:title>2.3: Linear Equations</dc:title>
</cp:coreProperties>
</file>